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5208-B72F-4A9E-8703-B2EF1CFA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F33-B5A7-4364-BF4E-E05B30BF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021-7195-41DE-888C-D6DE6852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F128-C756-4C8C-8CA7-B41B9B0E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15B-B035-41CA-A0EE-9714200D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934B-EA8C-4EBD-AEF2-CA90FC40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4C3-BE33-49BC-9C2B-3258F38C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5A37-CB81-46C4-BF37-084A89A2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ECD-5ACC-43F1-9BD0-4418AF30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61A-7FDF-4036-8F23-0BCE9A9E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07D-1A71-41F3-B0B9-0D504E85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AC7-5EDE-47C2-8C40-61C5516B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6587F0E-4E5D-491A-B5C9-97A5E6AD3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AVILON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v areálu spol. Veletrhy Brno, a. 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ODROBNÝ PRŮZKUM STÁVAJÍCÍ STŘECHY</a:t>
            </a:r>
            <a:r>
              <a:rPr b="1" lang="en-US" sz="1000" spc="-1" strike="noStrike">
                <a:solidFill>
                  <a:srgbClr val="ffffff"/>
                </a:solidFill>
                <a:latin typeface="Times New Roman C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19T07:58:01Z</dcterms:modified>
  <cp:revision>141</cp:revision>
  <dc:subject/>
  <dc:title>bez titulu</dc:title>
</cp:coreProperties>
</file>